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039-7E46-4989-8674-D62330C8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08F-79E0-4135-8B2A-8C1EA29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F64-C439-4B61-BFAA-1D3809DF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584-8A15-469A-BCAD-79174BDC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E695-8E38-4AD0-BA7B-8CA58DAE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2FDD-FDA4-4437-9B3A-FBA210FB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9B3F-61BA-4711-8E01-10D3610A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49A7-9224-4899-9CCF-7449C06E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BCF2-D68C-439E-B861-08DA7A7F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05C7-02C2-4B62-8B7C-496BF673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BDB0-26FD-4894-909D-C292B8D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E33-C379-45F4-AFC8-68D2208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4C48-8676-48D5-B854-36B7FFF0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63E9-9B9F-476D-8CBC-5E1A4A88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1E23-7361-4B36-A5B5-97862E27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F501-7375-4255-9918-8CE1ECEC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98DF-3044-461B-9F85-82A5749C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3B7-B43E-4F36-9F55-9FBD036A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2F8-457C-495F-BBAA-72085115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937-29B4-4453-AD6B-16905C39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FD9-4A69-438A-92CD-69EF1C23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06E-AA20-4E95-ABDA-D6B705E1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4D1-AC0E-439D-AD56-C9589C1B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B1E-AFAC-4DCF-84DA-C423932D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DF5B-2D1A-4C50-AA1F-4F9BF35866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422C-707B-4EB6-9003-3119DF1890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tourismguide.ro/galerie-foto-orasul-baile-tusnad-depresiunea_ciucului.html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tourismguide.ro/galerie-foto-orasul-baile-tusnad-lacul_sfanta_ana.html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tourismguide.ro/galerie-foto-orasul-baile-tusnad-sculpturi_din_lemn.html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tourismguide.ro/galerie-foto-orasul-baile-tusnad-parc_baile_tusnad.html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infotravelromania.ro/foto%20mic/romania/bucovina/manastiri/sucevita_manastire/intrare_manastireascevita.jpg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2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hyperlink" Target="http://www.iturism.ro/imagini/xl/image_10748.jpg" TargetMode="External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ETAPELE DE CONCEPERE A UNUI PRODUS TURISTIC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ategorii de produse turis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1280" y="5589720"/>
            <a:ext cx="806436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Times New Roman"/>
              </a:rPr>
              <a:t>CIRCUITE,SEJURURI(PACHETE DE VACANTA),CROAZIE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Times New Roman"/>
              </a:rPr>
              <a:t>PRODUSE TEMA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tatiuni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exemp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2 de statiuni balneare, respectiv 32 de statiuni turist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ara( judetul Ialomita), Busteni(judetul Prahova), Buzias(judetul Timis), Baile Felix(judetul Bihor), Baile Hercul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deal(judetul Brasov), Saturn(judetul Contanta), Sinaia(judetul Prahova), Singeorz-Bai(judetul Bistrita-Nasaud), Slanic Moldova(judetul Bcau), Sovata( judetul Mures), Tîrgu Ocna(judetul Bacau), Techirghio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Sejur la Baile Tusn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ec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mania, Braso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tinati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mania, Baile Tusn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0 LE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6 z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ort:transport autoc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z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nsiune ** camere sing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mipensiu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criere:Vã asteptãm la pensiunea Varteto, din Bãile Tusnad, de Revelion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din statiu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Poze Baile Tusnad | Depresiunea Ciuculu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1557360"/>
            <a:ext cx="3673440" cy="2158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Poze Baile Tusnad | Lacul Sfanta An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162864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Poze Baile Tusnad | Sculpturi din lemn Baile Tusna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3933720"/>
            <a:ext cx="3960720" cy="215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Poze Baile Tusnad | Parc Baile Tusnad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3280" y="4005360"/>
            <a:ext cx="4032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Turul Manastirilor Din Mold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ucuresti – Buzau – Focsani – Panciu – Marasesti – Tecuci – Vaslui – Iasi – Cotnari – Ipotesti – Suceava - Ciprian Porumbescu - Gura Humorului - Targu Neamt - Piatra Neamt - Miercurea Ciuc – Brasov - Rasnov – Bran - Sinaia- Bucure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Descopera Manastirile Moldovei"/>
          <p:cNvPicPr/>
          <p:nvPr/>
        </p:nvPicPr>
        <p:blipFill>
          <a:blip r:embed="rId3"/>
          <a:stretch/>
        </p:blipFill>
        <p:spPr>
          <a:xfrm>
            <a:off x="4643280" y="1484280"/>
            <a:ext cx="3961080" cy="223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103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MANASTIRI  DIN MOLDO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Manastirea  Sucevita decembrie 20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62864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manastirea Voronet 2006"/>
          <p:cNvPicPr/>
          <p:nvPr/>
        </p:nvPicPr>
        <p:blipFill>
          <a:blip r:embed="rId7"/>
          <a:stretch/>
        </p:blipFill>
        <p:spPr>
          <a:xfrm>
            <a:off x="4643280" y="1557360"/>
            <a:ext cx="4032360" cy="2158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Mănăstirea Humor"/>
          <p:cNvPicPr/>
          <p:nvPr/>
        </p:nvPicPr>
        <p:blipFill>
          <a:blip r:embed="rId8"/>
          <a:stretch/>
        </p:blipFill>
        <p:spPr>
          <a:xfrm>
            <a:off x="324000" y="3860640"/>
            <a:ext cx="4103640" cy="2571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Mănăstirea Sucevita"/>
          <p:cNvPicPr/>
          <p:nvPr/>
        </p:nvPicPr>
        <p:blipFill>
          <a:blip r:embed="rId9"/>
          <a:stretch/>
        </p:blipFill>
        <p:spPr>
          <a:xfrm>
            <a:off x="4572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ccecff"/>
                </a:solidFill>
                <a:latin typeface="Times New Roman"/>
              </a:rPr>
              <a:t>TURUL MANASTIRILOR SI BISERICILOR DIN ZONA SNAGOV</a:t>
            </a:r>
            <a:r>
              <a:rPr b="0" lang="pt-BR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iective majore 3 vechi manastiri foarte diferite: una cu maici, a doua izolata pe o insula (un staret), a treia cu calugar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serica din Ciofliceni, Biserica din Ghermanesti, Biserica din Snagov-Sat.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urat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t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: 68 EURO sau 240 RON/persoana. 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Include: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ghid pe toata durata circuitului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transport cu autocarul Bucuresti-Tiganesti-Snagov-Caldarusani-Bucuresti - taxe de intrare la cele 3 manastiri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transportul pe apa la Manastirea Vlad Tepes cu vaporasul (circa 2 x 20 min)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refreshment si pranz (la restaurant sau pe vaporas)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Grup: minim 30 persoa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din Snago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Snagov | Galerie Foto Orasul Snagov"/>
          <p:cNvPicPr/>
          <p:nvPr/>
        </p:nvPicPr>
        <p:blipFill>
          <a:blip r:embed="rId4"/>
          <a:stretch/>
        </p:blipFill>
        <p:spPr>
          <a:xfrm>
            <a:off x="539640" y="1628640"/>
            <a:ext cx="3961080" cy="2019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Snagov | Informatii utile Snagov"/>
          <p:cNvPicPr/>
          <p:nvPr/>
        </p:nvPicPr>
        <p:blipFill>
          <a:blip r:embed="rId5"/>
          <a:stretch/>
        </p:blipFill>
        <p:spPr>
          <a:xfrm>
            <a:off x="4788000" y="1628640"/>
            <a:ext cx="3816360" cy="201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Obiective Turistice Orasul Snagov | Galerie foto"/>
          <p:cNvPicPr/>
          <p:nvPr/>
        </p:nvPicPr>
        <p:blipFill>
          <a:blip r:embed="rId7"/>
          <a:stretch/>
        </p:blipFill>
        <p:spPr>
          <a:xfrm>
            <a:off x="539640" y="3933720"/>
            <a:ext cx="38880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Cazare Snagov | Poze unitati cazare Snagov "/>
          <p:cNvPicPr/>
          <p:nvPr/>
        </p:nvPicPr>
        <p:blipFill>
          <a:blip r:embed="rId8"/>
          <a:stretch/>
        </p:blipFill>
        <p:spPr>
          <a:xfrm>
            <a:off x="4643280" y="3860640"/>
            <a:ext cx="4105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ipuri de croazie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ea Caraibelor, Marea Mediterana, Alaska si Europa ,croaziere pe N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oazierele temati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trag calatori dintr-o gama mare de varsta si de aceea pietele tinta variaza in functie de tematica croazierei. Multe teme se bazeaza pe activitati sau destinatii care pot fi vizitate in timpul croazierei , cum ar fi artele, dansul sau golful. Calatorii tind sa fie modesti, singuratici sau senior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ROAZIERE PE N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TARAMUL FARAONIL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 –MAGIA NILULU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MISTERUL PIRAMIDEL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SECRETUL SFINXULU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MISTERELE NUBIE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1.CULEGEREA INFORMATIILOR DESP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re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venituri,timp liber,varsta,categorie socioprofesion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erta concurente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produsele turistice oferite,preturile si tarifele pract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onene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cluse in propria oferta:obiective,baza tehnico-materi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IMAGINI,EGI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Turism Egipt - Croaziera pe Nil"/>
          <p:cNvPicPr/>
          <p:nvPr/>
        </p:nvPicPr>
        <p:blipFill>
          <a:blip r:embed="rId4"/>
          <a:stretch/>
        </p:blipFill>
        <p:spPr>
          <a:xfrm>
            <a:off x="395280" y="1484280"/>
            <a:ext cx="4032360" cy="2089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Circuit Egipt"/>
          <p:cNvPicPr/>
          <p:nvPr/>
        </p:nvPicPr>
        <p:blipFill>
          <a:blip r:embed="rId5"/>
          <a:stretch/>
        </p:blipFill>
        <p:spPr>
          <a:xfrm>
            <a:off x="4572000" y="148428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611280" y="3933720"/>
            <a:ext cx="3744720" cy="223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4716360" y="4005360"/>
            <a:ext cx="410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SEE TURISTICE SPECIFICE MARAMURESULU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seul Bisericilor de lemn: Deseşti - Ieud - Bogdan Vodă - Bârsana - Giuleşi - Budeşti - Fereşti - Vadu Izei - Rozavlea - Rogoz sau pe ruta Sighetu Marmaţiei - Vadu Izei - Fereşti - Corneşti - Călineşti - Sârbi - Sat Şugatag Mânăstire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rul staţiunilor balneo-climaterice : Ocna Şugatag - Băile Cărbunari - Băile Dăneşti - Băile Botiza - Băile Borşa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672000" cy="2016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859280" y="1557360"/>
            <a:ext cx="3745080" cy="2158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468360" y="3860640"/>
            <a:ext cx="4032360" cy="2305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4643280" y="3933720"/>
            <a:ext cx="3889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Oferte de lit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elion 2008 la Hotel Europa 4* in Eforie Nord!!!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rata: 3 zile 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ort: la cerere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zare: Hotel ****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a inclusa : mic dejun 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erta valabila:pana in Ianuarie 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ie oferta : Revelion 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ioada30.12.2007-02.01.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tul 1110RONNota : Preturile sunt pentru o persoana/seju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456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Turul cetatilor mediev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ucuresti – Brasov – Prejmer – Rupea – Sigisoara – Biertan – Medias – Sibiu – Bucure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Transilvania-Cetati Medievale"/>
          <p:cNvPicPr/>
          <p:nvPr/>
        </p:nvPicPr>
        <p:blipFill>
          <a:blip r:embed="rId2"/>
          <a:stretch/>
        </p:blipFill>
        <p:spPr>
          <a:xfrm>
            <a:off x="4643280" y="1700280"/>
            <a:ext cx="410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Exemple de obiective turistice medieval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395280" y="1700280"/>
            <a:ext cx="4032360" cy="1873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42920" y="3357720"/>
            <a:ext cx="2952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RUPEA-CETATEA DAC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4716360" y="1628640"/>
            <a:ext cx="3959280" cy="2087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59280" y="3429000"/>
            <a:ext cx="3745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BIERTAN-BIS.FORTIFIC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95280" y="393372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68360" y="5805360"/>
            <a:ext cx="403236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SIBIU-ORASUL VEC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3789360"/>
            <a:ext cx="4105080" cy="244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59280" y="5805360"/>
            <a:ext cx="4284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SIGHISOARA-CE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1.CULEGEREA INFORMATIILOR DESP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re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venituri,timp liber,varsta,categorie socioprofesion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erta concurente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produsele turistice oferite,preturile si tarifele pract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onene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cluse in propria oferta:obiective,baza tehnico-materi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Selectarea obiectivel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uristice,serviciilor oferite si unitatile prestatoare in functie de tipologia clientelei si particularitatile cererii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3.Combinarea si asamblarea componentelor produsului turistic-orgnizare prelimina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ur-operatorul aleg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tinat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jlocul de transpor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tatile de cazare,unitatile de alimentati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te servicii incluse in pache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4.Asigurarea serviciilor pe parcursul calatori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ntia de turism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ie contracte ,conventii cu prestatorii directi de servicii turist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te comenzi de rezerv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 intocmi programul turist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5.Determinarea calcului produsului turist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aliza de pr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a contin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ul serviciilor de baza:transport,cazare,alimentati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ul serviciilor supliment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s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.V.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.S.D.P.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6.Promovarea produsului turist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alizarea si distribuirea brosurilor,pliantelor,afiselor turist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ss-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7.Lansarea produsului turistic pe pia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 sir de actiuni prin care produsele turistice se fac cunoscute atat pe plan local cat si nationa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0:44:58Z</dcterms:created>
  <dc:creator>moni</dc:creator>
  <dc:description/>
  <dc:language>en-US</dc:language>
  <cp:lastModifiedBy>moni</cp:lastModifiedBy>
  <dcterms:modified xsi:type="dcterms:W3CDTF">2007-10-24T23:26:20Z</dcterms:modified>
  <cp:revision>14</cp:revision>
  <dc:subject/>
  <dc:title>ETEPELE DE CONCEPERE A UNUI PRODUS TURISTIC</dc:title>
</cp:coreProperties>
</file>